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E95-02F8-487F-A643-F63A1285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C4B-6AE6-4691-A85F-B680324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484-12C0-4442-B536-C5A02011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39C-2E98-4D63-AB42-7C87A9AF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74B-94FE-43EC-8C6F-CB896883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59D-57F3-41A4-A776-E4B585CA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13B-1400-4C07-84A6-B648D56E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BB2-DB08-4FF9-8370-05F1B580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E1A-016C-4FF9-9E22-45DF1B9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AB7-C183-4AAE-90A9-87EF64E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A7F-3F8E-467E-ACD0-3C89BB2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C77-F8ED-47FF-8BC1-07EAB22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E4970-8B69-428D-9A98-133B95FBE7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LE PROPH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2293920"/>
            <a:ext cx="1432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EL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9640" y="4500720"/>
            <a:ext cx="1620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ATR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FISH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072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964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9520" y="2293920"/>
            <a:ext cx="2103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VIN PE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8280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00720" y="5219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2280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6620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2317680"/>
            <a:ext cx="1149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964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2303640"/>
            <a:ext cx="180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4533840"/>
            <a:ext cx="1620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0720" y="4533840"/>
            <a:ext cx="1149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4533840"/>
            <a:ext cx="1620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2728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RAV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360" y="2293920"/>
            <a:ext cx="2879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RACHEL PAULE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96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7964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28800" y="2293920"/>
            <a:ext cx="2103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VIN PE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7020000"/>
            <a:ext cx="2159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E BEL AGEN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96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08360" y="6997680"/>
            <a:ext cx="153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SH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280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6620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64040" y="2303640"/>
            <a:ext cx="205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JO KASPER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964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4360" y="2303640"/>
            <a:ext cx="2448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VENUS THO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638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533840"/>
            <a:ext cx="21607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LICIA VICK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9640" y="277164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98760" y="4533840"/>
            <a:ext cx="2362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BRUCE CLAY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99280" y="4500720"/>
            <a:ext cx="2513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SEYMOUR DAV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4535640"/>
            <a:ext cx="23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ARIA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196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11560" y="7020000"/>
            <a:ext cx="2187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MACL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2728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MELCH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93920"/>
            <a:ext cx="2879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Celle qui s'est enfu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647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303640"/>
            <a:ext cx="2508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Celui pris pour m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9564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24360" y="6997680"/>
            <a:ext cx="153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SH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788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0720" y="284328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9280" y="4676760"/>
            <a:ext cx="2809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Celle prise pour m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0720" y="647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15280" y="2303640"/>
            <a:ext cx="2448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e game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5640" y="2843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676760"/>
            <a:ext cx="234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e dernier 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" y="61272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284328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284328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6720" y="2303640"/>
            <a:ext cx="1384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75640" y="464328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11640" y="4680000"/>
            <a:ext cx="23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e 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00720" y="7020000"/>
            <a:ext cx="1662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A BEA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7200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27280" y="16200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PHARA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684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960" y="2411280"/>
            <a:ext cx="11491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525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7880" y="7016760"/>
            <a:ext cx="16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291636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22560" y="2409840"/>
            <a:ext cx="1478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0720" y="647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9640" y="2411280"/>
            <a:ext cx="1800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60720" y="684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676760"/>
            <a:ext cx="234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64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291636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2000" y="2987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6720" y="2411280"/>
            <a:ext cx="13348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57840" y="4680000"/>
            <a:ext cx="1335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5280" y="4680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GAM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7020000"/>
            <a:ext cx="27115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ATRICIA FISH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72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8840" y="52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72480" y="521964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6997680"/>
            <a:ext cx="2076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AU BETA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27280" y="414360"/>
            <a:ext cx="540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- TRI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720" y="122400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2986200"/>
            <a:ext cx="1120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ZOD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35280" y="2986200"/>
            <a:ext cx="212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NANCY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99280" y="2987640"/>
            <a:ext cx="2700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'AGENT DOUG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22400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0360" y="5219640"/>
            <a:ext cx="2340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'AUTRE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122400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2000" y="352728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987640"/>
            <a:ext cx="12495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RA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126036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79640" y="41436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MELVIN SH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1520" y="2986200"/>
            <a:ext cx="2616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Nancy la secre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00720" y="2987640"/>
            <a:ext cx="27003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des gars à mes trou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1152360"/>
            <a:ext cx="1439640" cy="162108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22">
                <a:moveTo>
                  <a:pt x="23" y="0"/>
                </a:moveTo>
                <a:arcTo wR="23" hR="23" stAng="16200000" swAng="-5400000"/>
                <a:lnTo>
                  <a:pt x="0" y="24299"/>
                </a:lnTo>
                <a:arcTo wR="23" hR="23" stAng="10800000" swAng="-5400000"/>
                <a:lnTo>
                  <a:pt x="21577" y="2432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0720" y="3419640"/>
            <a:ext cx="1440000" cy="162072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0">
                <a:moveTo>
                  <a:pt x="23" y="0"/>
                </a:moveTo>
                <a:arcTo wR="23" hR="23" stAng="16200000" swAng="-5400000"/>
                <a:lnTo>
                  <a:pt x="0" y="24287"/>
                </a:lnTo>
                <a:arcTo wR="23" hR="23" stAng="10800000" swAng="-5400000"/>
                <a:lnTo>
                  <a:pt x="21577" y="2431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111600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0720" y="1112760"/>
            <a:ext cx="1440000" cy="162108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1920" y="2987640"/>
            <a:ext cx="17190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McL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5219640"/>
            <a:ext cx="27003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Un des gars à mes trou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60720" y="52236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GOT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30680" y="4140360"/>
            <a:ext cx="115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N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00720" y="2268360"/>
            <a:ext cx="1439640" cy="162108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22">
                <a:moveTo>
                  <a:pt x="23" y="0"/>
                </a:moveTo>
                <a:arcTo wR="23" hR="23" stAng="16200000" swAng="-5400000"/>
                <a:lnTo>
                  <a:pt x="0" y="24299"/>
                </a:lnTo>
                <a:arcTo wR="23" hR="23" stAng="10800000" swAng="-5400000"/>
                <a:lnTo>
                  <a:pt x="21577" y="2432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0720" y="222732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4173480"/>
            <a:ext cx="2820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RACHEL (MA S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0000" y="90000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E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4140360"/>
            <a:ext cx="1797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R PUR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00720" y="2268360"/>
            <a:ext cx="1439640" cy="162108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1080"/>
              <a:gd name="textAreaBottom" fmla="*/ 1620720 h 1621080"/>
            </a:gdLst>
            <a:ahLst/>
            <a:rect l="textAreaLeft" t="textAreaTop" r="textAreaRight" b="textAreaBottom"/>
            <a:pathLst>
              <a:path w="21600" h="24322">
                <a:moveTo>
                  <a:pt x="23" y="0"/>
                </a:moveTo>
                <a:arcTo wR="23" hR="23" stAng="16200000" swAng="-5400000"/>
                <a:lnTo>
                  <a:pt x="0" y="24299"/>
                </a:lnTo>
                <a:arcTo wR="23" hR="23" stAng="10800000" swAng="-5400000"/>
                <a:lnTo>
                  <a:pt x="21577" y="2432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720" y="222732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4140360"/>
            <a:ext cx="284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LUCIANO MON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0000" y="900000"/>
            <a:ext cx="5940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europol"/>
              </a:rPr>
              <a:t>TROMBINOSCOPE – VI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9280" y="2160720"/>
            <a:ext cx="1439640" cy="1620720"/>
          </a:xfrm>
          <a:custGeom>
            <a:avLst/>
            <a:gdLst>
              <a:gd name="textAreaLeft" fmla="*/ 360 w 1439640"/>
              <a:gd name="textAreaRight" fmla="*/ 1439280 w 1439640"/>
              <a:gd name="textAreaTop" fmla="*/ 360 h 1620720"/>
              <a:gd name="textAreaBottom" fmla="*/ 1620360 h 1620720"/>
            </a:gdLst>
            <a:ahLst/>
            <a:rect l="textAreaLeft" t="textAreaTop" r="textAreaRight" b="textAreaBottom"/>
            <a:pathLst>
              <a:path w="21600" h="24316">
                <a:moveTo>
                  <a:pt x="23" y="0"/>
                </a:moveTo>
                <a:arcTo wR="23" hR="23" stAng="16200000" swAng="-5400000"/>
                <a:lnTo>
                  <a:pt x="0" y="24293"/>
                </a:lnTo>
                <a:arcTo wR="23" hR="23" stAng="10800000" swAng="-5400000"/>
                <a:lnTo>
                  <a:pt x="21577" y="2431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14640" y="4140360"/>
            <a:ext cx="1522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europol"/>
              </a:rPr>
              <a:t>MELCH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