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20D-FCDB-496B-9A6C-D4B6F0CF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5CD-4A13-4112-80AB-821DD182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4F1-6C6B-41C4-99C5-14CA518A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07D-A246-4F4D-A48E-7804ABAD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01A-C7BE-498B-99E1-EFF7845B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373-75A4-4243-9C7C-9D42D5C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240-470F-48BF-AC84-8A0323F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C21-58CD-4878-AA89-7D6F84D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A7F-4BF3-47FF-97AA-1CA44BD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2C3-68F9-4F63-8D18-BCF008AC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3B8-26FD-4405-AFCD-687F534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BE0-FBF1-4BC0-81FD-EB2E400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DDB19-52CD-49E3-AACE-2B48F21E5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LE PROPH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2293920"/>
            <a:ext cx="143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EL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9640" y="4500720"/>
            <a:ext cx="1620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ATR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FISH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964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9520" y="2293920"/>
            <a:ext cx="210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VIN PE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280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00720" y="5219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2280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6620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2317680"/>
            <a:ext cx="1149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964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2303640"/>
            <a:ext cx="180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533840"/>
            <a:ext cx="162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0720" y="4533840"/>
            <a:ext cx="1149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533840"/>
            <a:ext cx="162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RAV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360" y="2293920"/>
            <a:ext cx="287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 PAULE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293920"/>
            <a:ext cx="210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VIN PE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7020000"/>
            <a:ext cx="2159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E BEL AGEN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8360" y="6997680"/>
            <a:ext cx="153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SH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280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6620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64040" y="2303640"/>
            <a:ext cx="205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JO KASPER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964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2303640"/>
            <a:ext cx="244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VENUS THO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533840"/>
            <a:ext cx="216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LICIA VICK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98760" y="4533840"/>
            <a:ext cx="2362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BRUCE CLAY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99280" y="4500720"/>
            <a:ext cx="2513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SEYMOUR DAV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4535640"/>
            <a:ext cx="23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ARIA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11560" y="7020000"/>
            <a:ext cx="2187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MACL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MELCH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93920"/>
            <a:ext cx="287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le qui s'est enfu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303640"/>
            <a:ext cx="2508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ui pris pour m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9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24360" y="6997680"/>
            <a:ext cx="153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SH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788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284328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9280" y="4676760"/>
            <a:ext cx="2809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le prise pour m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15280" y="2303640"/>
            <a:ext cx="244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e game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5640" y="2843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67676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e dernier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61272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284328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2843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6720" y="2303640"/>
            <a:ext cx="1384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5640" y="464328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4680000"/>
            <a:ext cx="23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e 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7020000"/>
            <a:ext cx="1662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A BEA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7200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PHARA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684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960" y="2411280"/>
            <a:ext cx="1149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291636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22560" y="2409840"/>
            <a:ext cx="1478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9640" y="2411280"/>
            <a:ext cx="1800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60720" y="684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67676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291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000" y="298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6720" y="2411280"/>
            <a:ext cx="1334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57840" y="4680000"/>
            <a:ext cx="1335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5280" y="4680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7020000"/>
            <a:ext cx="2711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ATRICIA FISH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88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72480" y="5219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27280" y="41436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TR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72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2986200"/>
            <a:ext cx="1120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ZOD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35280" y="2986200"/>
            <a:ext cx="212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2987640"/>
            <a:ext cx="2700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'AGENT DOUG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0360" y="5219640"/>
            <a:ext cx="2340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'AUTRE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0" y="352728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987640"/>
            <a:ext cx="12495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126036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79640" y="41436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MELVIN SH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1520" y="2986200"/>
            <a:ext cx="2616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la secre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00720" y="2987640"/>
            <a:ext cx="2700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des gars à mes tro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1152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720" y="34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111600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0720" y="111276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920" y="2987640"/>
            <a:ext cx="1719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McL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219640"/>
            <a:ext cx="2700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des gars à mes tro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60720" y="52236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GOT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30680" y="4140360"/>
            <a:ext cx="115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00720" y="2268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720" y="22273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173480"/>
            <a:ext cx="2820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 (MA S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0000" y="90000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E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4140360"/>
            <a:ext cx="1797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00720" y="2268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720" y="22273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4140360"/>
            <a:ext cx="284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UCIANO MON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0000" y="90000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VI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9280" y="21607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14640" y="4140360"/>
            <a:ext cx="1522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ELCH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